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5311-5C00-4625-8FBD-B312C41A0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5203-F8D2-4FE8-B2CA-CA2438F54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69FE-532E-49BE-AAE6-12FC8CEDB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5B91-71BE-400F-9947-0F70F805E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4DC5-85AA-46AA-B889-36CA87422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427F-7C77-4984-9434-A087C9CC1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3819-EBAC-44E9-AD8B-A3C147CB4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934B-719D-46B6-8635-47D35C48E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4A97-2AB4-4269-A791-5833B3A25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C5C7-4C67-49FF-AF52-989D657F8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C6B3-B685-4788-B288-636A361FF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7C6F-F843-43C9-AE9D-EC65ADD2F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A0BDD-67AC-4D50-89A9-0D5BC517B2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rting with two poi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you taking not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eps to write an equation in standard form given two point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 the slope, remember y’s on top and x’s on the bott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in point slope form, use the first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llow the rules for standard form to convert into standard for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parenth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fr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and Y on the left of the equ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needs to be posi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an equation in standard form given the following points, (1,1) and (3,2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sl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= 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 – 1 = ½(x – 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group work to write the same equation in standard 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– 2y = 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an equation in standard form given the following points, (2,0) and (-2,-14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sl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= 7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 – 0 = 7/2(x – 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group work to write the same equation in standard 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x – 2y = 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2T20:12:18Z</dcterms:created>
  <dc:creator>Preferred Customer</dc:creator>
  <dc:description/>
  <dc:language>en-US</dc:language>
  <cp:lastModifiedBy>Preferred Customer</cp:lastModifiedBy>
  <dcterms:modified xsi:type="dcterms:W3CDTF">2007-12-12T20:14:30Z</dcterms:modified>
  <cp:revision>2</cp:revision>
  <dc:subject/>
  <dc:title>Starting with two points</dc:title>
</cp:coreProperties>
</file>